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462-4CB1-4A31-8F82-A2FD28F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CCD-A15F-4BA0-881F-09CE0BC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371-CDFA-4A59-A242-FC5C3045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917-F51D-4E9E-BA96-2A19EBD3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40F-79D9-4045-B8F8-FA817F1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2CF-56D9-494E-B3BF-BF9F59D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4EA-58BD-4E41-ADC8-A222A71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9DC-F257-4416-AEC4-E650110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487-2EC9-46D0-B8FB-8A87DAA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73-0CF7-45A1-97D4-7AD8A84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D19-BE8E-4CF4-A5DC-D5B09A7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09C-CFD6-424A-AD4A-3166DDC3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71E-7225-4F81-847A-723D370C5FB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olo 1" descr=""/>
          <p:cNvPicPr/>
          <p:nvPr/>
        </p:nvPicPr>
        <p:blipFill>
          <a:blip r:embed="rId1"/>
          <a:stretch/>
        </p:blipFill>
        <p:spPr>
          <a:xfrm>
            <a:off x="401760" y="639720"/>
            <a:ext cx="8461080" cy="1596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t3.gstatic.com/images?q=tbn:PJPT8ZwHRIg27M:http://ecoskylab.com/blog/wp-content/terra-malata.jpg&amp;t=1"/>
          <p:cNvPicPr/>
          <p:nvPr/>
        </p:nvPicPr>
        <p:blipFill>
          <a:blip r:embed="rId2"/>
          <a:stretch/>
        </p:blipFill>
        <p:spPr>
          <a:xfrm>
            <a:off x="2556000" y="2127240"/>
            <a:ext cx="41464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'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effetto serr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 è un principio naturale che si riferisce alla capacità di un pianeta di trattenere nella propria atmosfera parte del calore proveniente dal S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carolemico.myblog.it/media/00/01/145729233.jpg"/>
          <p:cNvPicPr/>
          <p:nvPr/>
        </p:nvPicPr>
        <p:blipFill>
          <a:blip r:embed="rId2"/>
          <a:stretch/>
        </p:blipFill>
        <p:spPr>
          <a:xfrm>
            <a:off x="3059280" y="3208320"/>
            <a:ext cx="3313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6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L'atmosfera che avvolge la Terra 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comporta come la vetrata di una gra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serra perchè alcuni gas  (</a:t>
            </a: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gas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Ravie"/>
              </a:rPr>
              <a:t>serra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)  presenti nell'atmosfera,  han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la capacità di intrappolare all'inter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dell'atmosfera le radiazioni infraros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che vengono riflesse dalla superfic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terrest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avi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legambientearcipelagotoscano.it/globalmente/climapoverta/img/Effetto-serra.jpg"/>
          <p:cNvPicPr/>
          <p:nvPr/>
        </p:nvPicPr>
        <p:blipFill>
          <a:blip r:embed="rId2"/>
          <a:stretch/>
        </p:blipFill>
        <p:spPr>
          <a:xfrm>
            <a:off x="2340000" y="3500280"/>
            <a:ext cx="4700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icbernareggio.it/didattici/inquinamento/aria/effetto-serra.gif"/>
          <p:cNvPicPr/>
          <p:nvPr/>
        </p:nvPicPr>
        <p:blipFill>
          <a:blip r:embed="rId1"/>
          <a:stretch/>
        </p:blipFill>
        <p:spPr>
          <a:xfrm>
            <a:off x="1258920" y="333360"/>
            <a:ext cx="6337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effetto serra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Rettangolo 3"/>
          <p:cNvSpPr/>
          <p:nvPr/>
        </p:nvSpPr>
        <p:spPr>
          <a:xfrm>
            <a:off x="1332000" y="126828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Ravie"/>
              </a:rPr>
              <a:t>Alcuni gas si concentrano nell' atmosfera, impedendo al calore terres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Ravie"/>
              </a:rPr>
              <a:t>di disperdersi nello spaz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3"/>
          <p:cNvSpPr/>
          <p:nvPr/>
        </p:nvSpPr>
        <p:spPr>
          <a:xfrm>
            <a:off x="900000" y="1628640"/>
            <a:ext cx="58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continuiamo a immettere questi gas nell'atmosfera la temperatura aumenterebbe nei prossimi 50/100 an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colpevole principale è l' anidride carbonica (CO2), oltre ad altri gas come il met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'anidride carbonica è formata da un atom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bonio legato a due atomi di ossig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piante consumano l'anidride carbonica attraverso la fotosintesi clorofilliana. Quindi, se queste diminuiscono, aumenta la concentrazione di anidride carbonica nell'atmosfera e di conseguenza aumenta l'effetto s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piccolastella.it/wp-content/uploads/2010/10/punto-interrogativo-2.jpg"/>
          <p:cNvPicPr/>
          <p:nvPr/>
        </p:nvPicPr>
        <p:blipFill>
          <a:blip r:embed="rId1"/>
          <a:stretch/>
        </p:blipFill>
        <p:spPr>
          <a:xfrm>
            <a:off x="6732720" y="0"/>
            <a:ext cx="2265120" cy="2852640"/>
          </a:xfrm>
          <a:prstGeom prst="rect">
            <a:avLst/>
          </a:prstGeom>
          <a:ln w="0">
            <a:noFill/>
          </a:ln>
        </p:spPr>
      </p:pic>
      <p:pic>
        <p:nvPicPr>
          <p:cNvPr id="52" name="Rettangolo 6" descr=""/>
          <p:cNvPicPr/>
          <p:nvPr/>
        </p:nvPicPr>
        <p:blipFill>
          <a:blip r:embed="rId2"/>
          <a:stretch/>
        </p:blipFill>
        <p:spPr>
          <a:xfrm>
            <a:off x="1749600" y="353880"/>
            <a:ext cx="529740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t3.gstatic.com/images?q=tbn:8V5b0xI7wXN4xM:http://digilander.libero.it/dama.760/060921-polar-bears_big.jpg&amp;t=1"/>
          <p:cNvPicPr/>
          <p:nvPr/>
        </p:nvPicPr>
        <p:blipFill>
          <a:blip r:embed="rId3"/>
          <a:stretch/>
        </p:blipFill>
        <p:spPr>
          <a:xfrm>
            <a:off x="3203640" y="5459400"/>
            <a:ext cx="273528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sdfew"/>
          <p:cNvPicPr/>
          <p:nvPr/>
        </p:nvPicPr>
        <p:blipFill>
          <a:blip r:embed="rId4"/>
          <a:stretch/>
        </p:blipFill>
        <p:spPr>
          <a:xfrm>
            <a:off x="6659640" y="3429000"/>
            <a:ext cx="2227320" cy="210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sd"/>
          <p:cNvPicPr/>
          <p:nvPr/>
        </p:nvPicPr>
        <p:blipFill>
          <a:blip r:embed="rId5"/>
          <a:stretch/>
        </p:blipFill>
        <p:spPr>
          <a:xfrm>
            <a:off x="6659640" y="5516640"/>
            <a:ext cx="2268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lamiaaria.it/images/edu/edu_21.png"/>
          <p:cNvPicPr/>
          <p:nvPr/>
        </p:nvPicPr>
        <p:blipFill>
          <a:blip r:embed="rId1"/>
          <a:stretch/>
        </p:blipFill>
        <p:spPr>
          <a:xfrm>
            <a:off x="3851280" y="3789360"/>
            <a:ext cx="2217600" cy="194796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6"/>
          <p:cNvSpPr/>
          <p:nvPr/>
        </p:nvSpPr>
        <p:spPr>
          <a:xfrm>
            <a:off x="1258920" y="206064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ridurre questo problema, bisognereb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distruggere le foreste esistenti e magari piantare altri alb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liminare o ridurre il consumo di combustibili fossili, sostituendoli con fonti energetiche rinnovabili (vento, sole, acqua, ec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ttangolo 7" descr=""/>
          <p:cNvPicPr/>
          <p:nvPr/>
        </p:nvPicPr>
        <p:blipFill>
          <a:blip r:embed="rId2"/>
          <a:stretch/>
        </p:blipFill>
        <p:spPr>
          <a:xfrm>
            <a:off x="-158760" y="304920"/>
            <a:ext cx="93456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ttangolo 3" descr=""/>
          <p:cNvPicPr/>
          <p:nvPr/>
        </p:nvPicPr>
        <p:blipFill>
          <a:blip r:embed="rId2"/>
          <a:stretch/>
        </p:blipFill>
        <p:spPr>
          <a:xfrm>
            <a:off x="1401840" y="-30240"/>
            <a:ext cx="577368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digilander.libero.it/gepponline/invenzioni/diablumo/portarullino.jpg"/>
          <p:cNvPicPr/>
          <p:nvPr/>
        </p:nvPicPr>
        <p:blipFill>
          <a:blip r:embed="rId3"/>
          <a:stretch/>
        </p:blipFill>
        <p:spPr>
          <a:xfrm>
            <a:off x="468360" y="2276640"/>
            <a:ext cx="1217520" cy="122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packagingonline.it/images/gastronomia/83400551b_vaschetta.jpg"/>
          <p:cNvPicPr/>
          <p:nvPr/>
        </p:nvPicPr>
        <p:blipFill>
          <a:blip r:embed="rId4"/>
          <a:stretch/>
        </p:blipFill>
        <p:spPr>
          <a:xfrm>
            <a:off x="2484360" y="2205000"/>
            <a:ext cx="1943280" cy="145728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14"/>
          <p:cNvSpPr/>
          <p:nvPr/>
        </p:nvSpPr>
        <p:spPr>
          <a:xfrm rot="5400000">
            <a:off x="5004360" y="2493000"/>
            <a:ext cx="1368360" cy="79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www.ecosmartfire.com/accessory/country_115/1818732480plasma1.jpg"/>
          <p:cNvPicPr/>
          <p:nvPr/>
        </p:nvPicPr>
        <p:blipFill>
          <a:blip r:embed="rId5"/>
          <a:stretch/>
        </p:blipFill>
        <p:spPr>
          <a:xfrm>
            <a:off x="6875640" y="234936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www.ilovesport.org/images/segno_piu.gif"/>
          <p:cNvPicPr/>
          <p:nvPr/>
        </p:nvPicPr>
        <p:blipFill>
          <a:blip r:embed="rId6"/>
          <a:stretch/>
        </p:blipFill>
        <p:spPr>
          <a:xfrm>
            <a:off x="1835280" y="2492280"/>
            <a:ext cx="615960" cy="635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www.ilovesport.org/images/segno_piu.gif"/>
          <p:cNvPicPr/>
          <p:nvPr/>
        </p:nvPicPr>
        <p:blipFill>
          <a:blip r:embed="rId7"/>
          <a:stretch/>
        </p:blipFill>
        <p:spPr>
          <a:xfrm>
            <a:off x="4500720" y="2637000"/>
            <a:ext cx="615960" cy="63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www.ilovesport.org/images/segno_piu.gif"/>
          <p:cNvPicPr/>
          <p:nvPr/>
        </p:nvPicPr>
        <p:blipFill>
          <a:blip r:embed="rId8"/>
          <a:stretch/>
        </p:blipFill>
        <p:spPr>
          <a:xfrm>
            <a:off x="6227640" y="2708280"/>
            <a:ext cx="61596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upload.wikimedia.org/wikipedia/commons/thumb/4/4d/Equal_symbol.svg/158px-Equal_symbol.svg.png"/>
          <p:cNvPicPr/>
          <p:nvPr/>
        </p:nvPicPr>
        <p:blipFill>
          <a:blip r:embed="rId9"/>
          <a:stretch/>
        </p:blipFill>
        <p:spPr>
          <a:xfrm>
            <a:off x="3708360" y="3429000"/>
            <a:ext cx="150516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claudiobaglioni.net/blog/wp-content/uploads/2010/11/punto_interrogativo.jpg"/>
          <p:cNvPicPr/>
          <p:nvPr/>
        </p:nvPicPr>
        <p:blipFill>
          <a:blip r:embed="rId10"/>
          <a:stretch/>
        </p:blipFill>
        <p:spPr>
          <a:xfrm>
            <a:off x="3708360" y="4724280"/>
            <a:ext cx="1655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tangolo 1"/>
          <p:cNvSpPr/>
          <p:nvPr/>
        </p:nvSpPr>
        <p:spPr>
          <a:xfrm rot="20952600">
            <a:off x="595440" y="2565360"/>
            <a:ext cx="402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emperatura dell’acqua del conten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stava dentro alla scatola di polisti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maggiore di que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tenitore che stava fu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2"/>
          <p:cNvSpPr/>
          <p:nvPr/>
        </p:nvSpPr>
        <p:spPr>
          <a:xfrm rot="944400">
            <a:off x="4819320" y="342612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catola di polistirolo ha funzi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una piccola serra. Un met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ottenere acqua ca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e abitazioni consiste proprio nel p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contenitore dell’acqua con le pa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ne nere al s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3"/>
          <p:cNvSpPr/>
          <p:nvPr/>
        </p:nvSpPr>
        <p:spPr>
          <a:xfrm>
            <a:off x="1332000" y="692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 CARTER"/>
              </a:rPr>
              <a:t>Dunque cosa osserviamo? E che cosa abbiamo capito con questo esperim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59:31Z</dcterms:created>
  <dc:creator>Sara</dc:creator>
  <dc:description/>
  <dc:language>en-US</dc:language>
  <cp:lastModifiedBy>Laura Polenta</cp:lastModifiedBy>
  <dcterms:modified xsi:type="dcterms:W3CDTF">2011-05-29T16:52:32Z</dcterms:modified>
  <cp:revision>23</cp:revision>
  <dc:subject/>
  <dc:title>Divertiamoci con l’effetto serra!</dc:title>
</cp:coreProperties>
</file>